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C525E-1156-46A6-BE29-06EF8A822978}"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D176F-22FF-4055-BF9D-31635E9CE7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0ECF0-AD34-4586-8BEF-21B6178B0A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ED5C9-7934-4C22-9E4A-570A22CD27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6D321-A7AC-48A9-8D58-32A3570AAD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1B18A-A559-4C7D-961A-E3632ACF7C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479A5-A7C0-48AB-93EE-510BEFB429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F3D07-8DEF-46FC-857C-6E21AC2C0C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6B159-D759-4CB2-B25E-846EFD3F37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68F4A-7512-4FE7-B521-F52CC7A301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FF86A-7936-4237-BAE5-2919E4306C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E2A06-B670-4FBB-8DDB-2AE500E169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E2F8B-2FD0-491B-AE51-C148AA151B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A2833-5709-4736-BE6E-AE573778F5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3CA5A-5FD5-4BC6-A6F2-431C60FA08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C7F48-42F4-41E3-9D4A-2213A423A2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B0131-A787-40B6-A589-47FCF86931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E4CA2-11E7-44E8-AF90-B3A47231BC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5831E-2BD4-449D-88A0-144D20101C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453BF-2DEF-4D00-AF5B-D5F00CB235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4238E-CD48-4CC9-A6F8-8D01FF2A8F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1106A-C6F3-4CE4-B0C2-CF5A027971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7F745-C6C6-441D-B6B4-1CC23B84F9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BB52C-81D7-485A-BD62-983915CD0C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DA066-0E13-4672-81FD-DAE82D84A2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2A3C5-097B-47D8-AAF3-C033302EB3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30999-7FE9-48EA-BFC5-352F5D89B3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22E9E-B97F-49DB-8372-161F982944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1426E-D695-4DAE-9657-CEAB12B79F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31BBE-54A6-4466-951E-A2EC59DDE1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97079-3D97-4B1C-80DB-B0B0DE50FF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CFF52-4AB0-437F-BCD9-CDE62B71D1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8954C-C749-4152-8694-492F9F5487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C376C-D795-44E4-B121-32108BF02C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36D46-230C-422A-A209-CAF5F2B692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320CB-4045-42C5-9360-AC23491333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7EA4F-A6EB-4B6E-851F-C3B6CEE125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E0E3F-C580-4722-B7D1-42A4AA2151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30497-2C88-463B-870E-F0E61ED932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309A7-AF31-40A9-9C20-A4E5E680FC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5C724-19A5-4368-89C5-C631EB2E61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10658-CE3C-489A-AD1C-C2ACB4CB80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92360-A42E-4E24-978F-AAA9DC5796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BF787-2396-44CA-9A5C-2C5C8C9B87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6DBD7-9EAE-4057-80A5-AAF4871641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29E3C-DB2F-4542-ACDF-90FECD400B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633B8-48C3-47A8-9328-C105ECB502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8D117-0031-45A9-B9AC-EC7B95517D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FE35E-DCE2-43D7-9DA8-791D62EEB3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D343A-BAF8-4356-B2DD-7927E38036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F96A3-9FD0-4BC4-9232-4E0FAC712D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A540F-8022-4879-9363-5EDB2520EF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5874A-8E41-464C-984D-4965ED66D7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2A50E-C443-4091-9084-45149E5DC5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7E113-4D82-44DA-9C42-7EA3FACB7A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FEC36-4207-44F6-A839-D5D8C570AC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79894-A039-4BBA-A952-956D4B081A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1EC1A-0519-4252-BD55-D1B59490E7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B5217-262C-46DE-AF31-A5549DB949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92801-106B-475F-91EA-1A57284780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A90B2-3E86-494C-9466-291DE90A88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73140-EACC-4797-B42C-0EBA39BD6C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2D6B4-1A73-46E4-8AE7-678837AB22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3495F-04AE-463A-BED6-73FF1E5B15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398FB-1055-4CC8-88BA-E0665A96C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4860-7167-4244-891B-A89C4F1A9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2DBD8-F869-4A6D-B31F-5D0D4C825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C6B42-6788-4932-B907-3D4C45439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41AC1-6C6B-4BCC-A109-B7A2AA87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FAA7-6B35-4F1B-835A-2945DA71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B189-ABB4-4D7D-97F4-7449CBED7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2E4C6-2DD0-4AA7-A45D-00E1C386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4D00A-77C3-4F82-820D-3384BF21C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C93C-6A35-4DA1-B3CE-EC57C0173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16E7-9793-480A-A561-E4AA80C7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4A0F7-61CD-4D7A-A8CB-9732DB4C8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56683-7AC0-4EAA-B6AC-F171BA9B81D4}"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C95CE-01A0-432E-974A-3997292EA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6224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931AF0-F839-4AB4-9008-1CC9A9F2C7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53364-827E-4809-9EE7-3824D4AA82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B492DE-4B86-4443-8A57-DF31F45E7C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DFF8F1-19DA-4851-9765-6314AA1ED6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E0957-EDF8-4913-B0DE-DC4EC9DB37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96544-639B-4157-8ABE-884045CA6D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E4715-1CB0-499D-84E8-05AD0A381F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DA992-FF4D-49EE-A110-3F41877E8D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D5059-B3B3-4CBF-A1E0-B3C972036D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36C6E9-5394-4FFD-914E-D51B32E809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A03DB-736A-4776-A3C8-3503BA839E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4T14:36:18Z</dcterms:modified>
  <cp:revision>487</cp:revision>
  <dc:subject/>
  <dc:title>Introductory Cybercrime Training for Judges and Prosecutors</dc:title>
</cp:coreProperties>
</file>